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EE0-29D5-4E3F-95FA-B3BBBA9B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4E9A-D5E6-4D75-BDF7-92D52389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909-EE02-4533-A87B-F111F762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B1A-D031-46B5-B84E-0A17A728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7D8-54DA-4AAC-8C01-554CCF13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F86-1157-4426-B967-6356DC0C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758-BA51-49E1-9787-7E56781E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8FC-BF01-4F32-BCA8-ADEC613C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AC0-8CEA-4563-AB96-5E38BC8A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DFB-540D-40C5-97F8-3FEFF662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0A8-68EE-4D90-A9A3-3FE7E46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26D-D67F-4D77-976A-8E13D561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91FA-16A4-4D58-AB0C-F5AEE0912CBB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270160" y="2565360"/>
            <a:ext cx="604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琥珀"/>
                <a:ea typeface="华文琥珀"/>
              </a:rPr>
              <a:t>语文园地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948400" y="1052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771640" y="54878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徐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3365640" y="140328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帆船风儿吹着走，远洋轮船走五洲。挖泥船疏通航道，潜水艇儿海底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捕鱼船儿把网拉，宇宙飞船上月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3365640" y="981000"/>
            <a:ext cx="430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大轮船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（杜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轮船大，像座楼，房间走廊样样有。乘上长江大轮船，水浪哗哗去旅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到南京，到汉口，床走人走水也走。回到家里住大楼，夜里梦见大楼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"/>
          <p:cNvSpPr/>
          <p:nvPr/>
        </p:nvSpPr>
        <p:spPr>
          <a:xfrm>
            <a:off x="2340000" y="1700280"/>
            <a:ext cx="1368360" cy="129708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484360" y="17859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627280" y="227664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067280" y="1557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sh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è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nɡ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桃花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盛会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茂盛。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4032360" y="2637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ch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é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nɡ 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盛饭、盛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3"/>
          <p:cNvSpPr/>
          <p:nvPr/>
        </p:nvSpPr>
        <p:spPr>
          <a:xfrm>
            <a:off x="2050920" y="1700280"/>
            <a:ext cx="1368720" cy="129708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6e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195640" y="1785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340000" y="227664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8"/>
          <p:cNvSpPr/>
          <p:nvPr/>
        </p:nvSpPr>
        <p:spPr>
          <a:xfrm>
            <a:off x="3419640" y="1700280"/>
            <a:ext cx="1368360" cy="1297080"/>
          </a:xfrm>
          <a:prstGeom prst="ellipse">
            <a:avLst/>
          </a:prstGeom>
          <a:solidFill>
            <a:srgbClr val="eb6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564000" y="1785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床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铺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3780000" y="2279520"/>
            <a:ext cx="936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1"/>
          <p:cNvSpPr/>
          <p:nvPr/>
        </p:nvSpPr>
        <p:spPr>
          <a:xfrm>
            <a:off x="4788000" y="1628640"/>
            <a:ext cx="1368360" cy="129564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4932360" y="17002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148360" y="220500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4"/>
          <p:cNvSpPr/>
          <p:nvPr/>
        </p:nvSpPr>
        <p:spPr>
          <a:xfrm>
            <a:off x="6156360" y="1628640"/>
            <a:ext cx="1368360" cy="1295640"/>
          </a:xfrm>
          <a:prstGeom prst="ellipse">
            <a:avLst/>
          </a:prstGeom>
          <a:solidFill>
            <a:srgbClr val="a9899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6300720" y="17146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好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6443640" y="220500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7"/>
          <p:cNvSpPr/>
          <p:nvPr/>
        </p:nvSpPr>
        <p:spPr>
          <a:xfrm>
            <a:off x="1979640" y="4149720"/>
            <a:ext cx="1368360" cy="1295280"/>
          </a:xfrm>
          <a:prstGeom prst="ellipse">
            <a:avLst/>
          </a:prstGeom>
          <a:solidFill>
            <a:srgbClr val="badee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2268360" y="472428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2124000" y="4221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重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0"/>
          <p:cNvSpPr/>
          <p:nvPr/>
        </p:nvSpPr>
        <p:spPr>
          <a:xfrm>
            <a:off x="3348000" y="4151160"/>
            <a:ext cx="1368360" cy="1297080"/>
          </a:xfrm>
          <a:prstGeom prst="ellipse">
            <a:avLst/>
          </a:prstGeom>
          <a:solidFill>
            <a:srgbClr val="8a87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3635280" y="472752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2"/>
          <p:cNvSpPr/>
          <p:nvPr/>
        </p:nvSpPr>
        <p:spPr>
          <a:xfrm>
            <a:off x="3492360" y="4222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23"/>
          <p:cNvSpPr/>
          <p:nvPr/>
        </p:nvSpPr>
        <p:spPr>
          <a:xfrm>
            <a:off x="4716360" y="4149720"/>
            <a:ext cx="1368360" cy="1295280"/>
          </a:xfrm>
          <a:prstGeom prst="ellipse">
            <a:avLst/>
          </a:prstGeom>
          <a:solidFill>
            <a:srgbClr val="e1d36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5003640" y="4724280"/>
            <a:ext cx="1081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4859280" y="422100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口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号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26"/>
          <p:cNvSpPr/>
          <p:nvPr/>
        </p:nvSpPr>
        <p:spPr>
          <a:xfrm>
            <a:off x="6084720" y="4149720"/>
            <a:ext cx="1366920" cy="1295280"/>
          </a:xfrm>
          <a:prstGeom prst="ellipse">
            <a:avLst/>
          </a:prstGeom>
          <a:solidFill>
            <a:srgbClr val="9986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7"/>
          <p:cNvSpPr/>
          <p:nvPr/>
        </p:nvSpPr>
        <p:spPr>
          <a:xfrm>
            <a:off x="6372360" y="472428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6227640" y="4221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29"/>
          <p:cNvSpPr/>
          <p:nvPr/>
        </p:nvSpPr>
        <p:spPr>
          <a:xfrm>
            <a:off x="7451640" y="4149720"/>
            <a:ext cx="1368360" cy="1295280"/>
          </a:xfrm>
          <a:prstGeom prst="ellipse">
            <a:avLst/>
          </a:prstGeom>
          <a:solidFill>
            <a:srgbClr val="a1e3b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0"/>
          <p:cNvSpPr/>
          <p:nvPr/>
        </p:nvSpPr>
        <p:spPr>
          <a:xfrm>
            <a:off x="7740720" y="4724280"/>
            <a:ext cx="107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1"/>
          <p:cNvSpPr/>
          <p:nvPr/>
        </p:nvSpPr>
        <p:spPr>
          <a:xfrm>
            <a:off x="7596360" y="422100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难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灾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2"/>
          <p:cNvSpPr/>
          <p:nvPr/>
        </p:nvSpPr>
        <p:spPr>
          <a:xfrm>
            <a:off x="7524720" y="1630440"/>
            <a:ext cx="1368360" cy="1297080"/>
          </a:xfrm>
          <a:prstGeom prst="ellipse">
            <a:avLst/>
          </a:prstGeom>
          <a:solidFill>
            <a:srgbClr val="f5b9d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3"/>
          <p:cNvSpPr/>
          <p:nvPr/>
        </p:nvSpPr>
        <p:spPr>
          <a:xfrm>
            <a:off x="7812000" y="220680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7667640" y="170352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5"/>
          <p:cNvSpPr/>
          <p:nvPr/>
        </p:nvSpPr>
        <p:spPr>
          <a:xfrm>
            <a:off x="2573280" y="2997360"/>
            <a:ext cx="54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根据词语的意思来猜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加点的多音字的读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"/>
          <p:cNvSpPr/>
          <p:nvPr/>
        </p:nvSpPr>
        <p:spPr>
          <a:xfrm>
            <a:off x="3059280" y="1989000"/>
            <a:ext cx="1368360" cy="129564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6e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916360" y="1989000"/>
            <a:ext cx="208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土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顽皮地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708360" y="249228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23"/>
          <p:cNvSpPr/>
          <p:nvPr/>
        </p:nvSpPr>
        <p:spPr>
          <a:xfrm>
            <a:off x="5724360" y="1919160"/>
            <a:ext cx="1368720" cy="1295640"/>
          </a:xfrm>
          <a:prstGeom prst="ellipse">
            <a:avLst/>
          </a:prstGeom>
          <a:solidFill>
            <a:srgbClr val="e1d36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6012000" y="2495520"/>
            <a:ext cx="576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5"/>
          <p:cNvSpPr/>
          <p:nvPr/>
        </p:nvSpPr>
        <p:spPr>
          <a:xfrm>
            <a:off x="5796000" y="1990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数不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9"/>
          <p:cNvSpPr/>
          <p:nvPr/>
        </p:nvSpPr>
        <p:spPr>
          <a:xfrm>
            <a:off x="5796000" y="4222800"/>
            <a:ext cx="1368360" cy="1297080"/>
          </a:xfrm>
          <a:prstGeom prst="ellipse">
            <a:avLst/>
          </a:prstGeom>
          <a:solidFill>
            <a:srgbClr val="a1e3b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0"/>
          <p:cNvSpPr/>
          <p:nvPr/>
        </p:nvSpPr>
        <p:spPr>
          <a:xfrm>
            <a:off x="6516720" y="4799160"/>
            <a:ext cx="71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1"/>
          <p:cNvSpPr/>
          <p:nvPr/>
        </p:nvSpPr>
        <p:spPr>
          <a:xfrm>
            <a:off x="5940360" y="42958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跟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睡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32"/>
          <p:cNvSpPr/>
          <p:nvPr/>
        </p:nvSpPr>
        <p:spPr>
          <a:xfrm>
            <a:off x="3059280" y="4221000"/>
            <a:ext cx="1368360" cy="1295640"/>
          </a:xfrm>
          <a:prstGeom prst="ellipse">
            <a:avLst/>
          </a:prstGeom>
          <a:solidFill>
            <a:srgbClr val="f5b9d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3"/>
          <p:cNvSpPr/>
          <p:nvPr/>
        </p:nvSpPr>
        <p:spPr>
          <a:xfrm>
            <a:off x="3348000" y="4797360"/>
            <a:ext cx="61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4"/>
          <p:cNvSpPr/>
          <p:nvPr/>
        </p:nvSpPr>
        <p:spPr>
          <a:xfrm>
            <a:off x="3203640" y="429264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长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长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"/>
          <p:cNvSpPr/>
          <p:nvPr/>
        </p:nvSpPr>
        <p:spPr>
          <a:xfrm>
            <a:off x="2340000" y="1892160"/>
            <a:ext cx="662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标点符号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句中有停顿，加只小蝌蚪（，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句话说完，画个小圆圈（。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疑惑或发问，耳朵坠耳环（？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命令或感叹，滴水下屋檐（！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3254760" y="8604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给下面的句子加上标点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3375000" y="2124000"/>
            <a:ext cx="410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阵秋风吹过 树叶像蝴蝶一样飘落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去公园玩  公园里花真多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棵树的叶子真奇怪  是什么树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菱形 6"/>
          <p:cNvSpPr/>
          <p:nvPr/>
        </p:nvSpPr>
        <p:spPr>
          <a:xfrm>
            <a:off x="2050920" y="2276640"/>
            <a:ext cx="320760" cy="2887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菱形 17"/>
          <p:cNvSpPr/>
          <p:nvPr/>
        </p:nvSpPr>
        <p:spPr>
          <a:xfrm>
            <a:off x="2050920" y="310356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菱形 18"/>
          <p:cNvSpPr/>
          <p:nvPr/>
        </p:nvSpPr>
        <p:spPr>
          <a:xfrm>
            <a:off x="2050920" y="393372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3254760" y="8604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给下面的句子加上标点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3374280" y="2124000"/>
            <a:ext cx="410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阵秋风吹过 树叶像蝴蝶一样飘落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去公园玩  公园里花真多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棵树的叶子真奇怪  是什么树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菱形 6"/>
          <p:cNvSpPr/>
          <p:nvPr/>
        </p:nvSpPr>
        <p:spPr>
          <a:xfrm>
            <a:off x="2050920" y="2276640"/>
            <a:ext cx="320760" cy="2887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菱形 17"/>
          <p:cNvSpPr/>
          <p:nvPr/>
        </p:nvSpPr>
        <p:spPr>
          <a:xfrm>
            <a:off x="2050920" y="310356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菱形 18"/>
          <p:cNvSpPr/>
          <p:nvPr/>
        </p:nvSpPr>
        <p:spPr>
          <a:xfrm>
            <a:off x="2050920" y="393372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427640" y="2133720"/>
            <a:ext cx="47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            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         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"/>
          <p:cNvSpPr/>
          <p:nvPr/>
        </p:nvSpPr>
        <p:spPr>
          <a:xfrm>
            <a:off x="4500720" y="105264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小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河水清清天气晴，小小青蛙大眼睛。保护禾苗吃害虫，做了不少好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你爱护小青蛙，好让禾苗不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2330280" y="860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有趣的儿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3590280" y="5300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找找看，这首儿歌里哪些字很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4518000" y="1042920"/>
            <a:ext cx="430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小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河水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清天气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小小青蛙大眼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保护禾苗吃害虫，做了不少好事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请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爱护小青蛙，好让禾苗不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2268360" y="147492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把 爸 吧    包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饱 抱 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方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放 防 房    青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清 晴 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妈 蚂 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4166640" y="4221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还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4550760" y="5148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声旁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2050920" y="831960"/>
            <a:ext cx="1657440" cy="13176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698840" cy="1312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1586160" cy="1312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"/>
          <p:cNvPicPr/>
          <p:nvPr/>
        </p:nvPicPr>
        <p:blipFill>
          <a:blip r:embed="rId4"/>
          <a:stretch/>
        </p:blipFill>
        <p:spPr>
          <a:xfrm>
            <a:off x="6950160" y="836640"/>
            <a:ext cx="1793880" cy="1312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51308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" descr=""/>
          <p:cNvPicPr/>
          <p:nvPr/>
        </p:nvPicPr>
        <p:blipFill>
          <a:blip r:embed="rId6"/>
          <a:stretch/>
        </p:blipFill>
        <p:spPr>
          <a:xfrm>
            <a:off x="3564000" y="393372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9" descr=""/>
          <p:cNvPicPr/>
          <p:nvPr/>
        </p:nvPicPr>
        <p:blipFill>
          <a:blip r:embed="rId7"/>
          <a:stretch/>
        </p:blipFill>
        <p:spPr>
          <a:xfrm>
            <a:off x="4932360" y="393372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" descr=""/>
          <p:cNvPicPr/>
          <p:nvPr/>
        </p:nvPicPr>
        <p:blipFill>
          <a:blip r:embed="rId8"/>
          <a:stretch/>
        </p:blipFill>
        <p:spPr>
          <a:xfrm>
            <a:off x="6443640" y="3897360"/>
            <a:ext cx="2300400" cy="111600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19640" y="3338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救护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用来（     ）的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3798720" y="765000"/>
            <a:ext cx="322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趣味识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饭能吃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水把茶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足快快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手轻轻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衣穿长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火放鞭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4214160" y="4724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又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3132000" y="5373720"/>
            <a:ext cx="57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形旁表义  声旁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1908000" y="1484280"/>
            <a:ext cx="69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巴  把  爸  方  放  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蚂  吗  饱  炮  清  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（  ）  好（  ）  尾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子 （  ）学  正（  ）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蚁   是（  ） 开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（  ）  （  ）天  （  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2246040" y="86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1908000" y="1484280"/>
            <a:ext cx="69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巴  把  爸  方  放  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蚂  吗  饱  炮  清  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尾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房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子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学  正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方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蚁   是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开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炮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天 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2246040" y="86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"/>
          <p:cNvSpPr/>
          <p:nvPr/>
        </p:nvSpPr>
        <p:spPr>
          <a:xfrm>
            <a:off x="2340000" y="18842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巴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嘴吧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方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妈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灯炮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肉饱子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炮茶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包经风霜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晴明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山青水秀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蜻蛙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雨过天清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火眼金睛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2340000" y="18842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巴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嘴吧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方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妈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灯炮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肉饱子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炮茶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包经风霜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晴明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山青水秀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蜻蛙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雨过天清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火眼金睛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志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志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志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来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3276720" y="4941720"/>
            <a:ext cx="52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老骥伏枥，志在千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烈士暮年，壮心不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想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7" descr=""/>
          <p:cNvPicPr/>
          <p:nvPr/>
        </p:nvPicPr>
        <p:blipFill>
          <a:blip r:embed="rId1"/>
          <a:stretch/>
        </p:blipFill>
        <p:spPr>
          <a:xfrm rot="20739600">
            <a:off x="1861920" y="1503360"/>
            <a:ext cx="3130560" cy="234936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9" descr=""/>
          <p:cNvPicPr/>
          <p:nvPr/>
        </p:nvPicPr>
        <p:blipFill>
          <a:blip r:embed="rId2"/>
          <a:stretch/>
        </p:blipFill>
        <p:spPr>
          <a:xfrm rot="1819800">
            <a:off x="5627160" y="1481040"/>
            <a:ext cx="3089520" cy="231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0" descr=""/>
          <p:cNvPicPr/>
          <p:nvPr/>
        </p:nvPicPr>
        <p:blipFill>
          <a:blip r:embed="rId3"/>
          <a:stretch/>
        </p:blipFill>
        <p:spPr>
          <a:xfrm rot="1199400">
            <a:off x="2298600" y="4257720"/>
            <a:ext cx="2746440" cy="21970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1" descr=""/>
          <p:cNvPicPr/>
          <p:nvPr/>
        </p:nvPicPr>
        <p:blipFill>
          <a:blip r:embed="rId4"/>
          <a:stretch/>
        </p:blipFill>
        <p:spPr>
          <a:xfrm rot="19762800">
            <a:off x="5681160" y="42955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8" descr=""/>
          <p:cNvPicPr/>
          <p:nvPr/>
        </p:nvPicPr>
        <p:blipFill>
          <a:blip r:embed="rId5"/>
          <a:stretch/>
        </p:blipFill>
        <p:spPr>
          <a:xfrm>
            <a:off x="3887640" y="2565360"/>
            <a:ext cx="2880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鲁班为什么会发明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3708360" y="1916280"/>
            <a:ext cx="2948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善于观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勤于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乐于动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2050920" y="831960"/>
            <a:ext cx="1657440" cy="1317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698840" cy="1312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1586160" cy="1312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" descr=""/>
          <p:cNvPicPr/>
          <p:nvPr/>
        </p:nvPicPr>
        <p:blipFill>
          <a:blip r:embed="rId4"/>
          <a:stretch/>
        </p:blipFill>
        <p:spPr>
          <a:xfrm>
            <a:off x="6950160" y="836640"/>
            <a:ext cx="1793880" cy="1312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7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51308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8" descr=""/>
          <p:cNvPicPr/>
          <p:nvPr/>
        </p:nvPicPr>
        <p:blipFill>
          <a:blip r:embed="rId6"/>
          <a:stretch/>
        </p:blipFill>
        <p:spPr>
          <a:xfrm>
            <a:off x="3564000" y="393372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" descr=""/>
          <p:cNvPicPr/>
          <p:nvPr/>
        </p:nvPicPr>
        <p:blipFill>
          <a:blip r:embed="rId7"/>
          <a:stretch/>
        </p:blipFill>
        <p:spPr>
          <a:xfrm>
            <a:off x="4932360" y="393372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0" descr=""/>
          <p:cNvPicPr/>
          <p:nvPr/>
        </p:nvPicPr>
        <p:blipFill>
          <a:blip r:embed="rId8"/>
          <a:stretch/>
        </p:blipFill>
        <p:spPr>
          <a:xfrm>
            <a:off x="6443640" y="3897360"/>
            <a:ext cx="2300400" cy="1116000"/>
          </a:xfrm>
          <a:prstGeom prst="rect">
            <a:avLst/>
          </a:prstGeom>
          <a:ln w="0">
            <a:noFill/>
          </a:ln>
        </p:spPr>
      </p:pic>
      <p:sp>
        <p:nvSpPr>
          <p:cNvPr id="66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大胆说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2411280" y="191628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文中的这些伟人给你留下了怎样的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2411280" y="368928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你觉得他们为什么会取得成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课外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2195640" y="249228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后请大家再去找一些名人的故事来阅读，还可以和同学一起讲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384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徐妙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5"/>
          <p:cNvSpPr/>
          <p:nvPr/>
        </p:nvSpPr>
        <p:spPr>
          <a:xfrm>
            <a:off x="2987640" y="150660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916360" y="37544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3006720" y="1628640"/>
            <a:ext cx="531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轿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救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摩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防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渔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货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油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轮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科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3365640" y="1052640"/>
            <a:ext cx="430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板凳，连一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当做汽车开出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邮政车，穿绿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信件包裹装肚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救护车，穿白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病人伤员抱怀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消防车，穿红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喷水灭火跑得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2411280" y="98100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轿车排成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种颜色真好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追我赶跑得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像汽车在比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3851280" y="27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公共汽车可真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椅子整齐排排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走过一站又一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上他下都是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5292720" y="45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货车长又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种货物满满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城市乡村到处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建设祖国立功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5292720" y="141444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2195640" y="50148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2411280" y="98100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洒水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洗马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洗马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啦啦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3851280" y="27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消防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灭火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灭火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快快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5292720" y="45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救护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救病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救病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快快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5803920" y="11970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是一辆特别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556000" y="46530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是一辆特别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Windows 用户</cp:lastModifiedBy>
  <dcterms:modified xsi:type="dcterms:W3CDTF">2017-08-10T06:46:11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